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5DC-99D3-42C1-80FD-375B8C6A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8A6-5E8F-4701-A3E4-C93793CC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56F-2DF0-4D69-B8DB-43AF1D4B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137-70CC-425D-818C-606F0643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663-77D9-4CB2-890F-80972602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1D5-2F7C-482A-A4B8-058DE01B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2C6-FAC5-4C37-B2AB-7B6406DC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E13-C926-4BA3-9EE8-4C1B045B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C60-6AD0-4CBA-93BA-9293E599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D36-8619-478E-9648-76576AAA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A81-61A9-4E95-86C6-EFAF359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46F-F943-4725-ACF4-DE849501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F6CF-E6DF-4603-956E-BC64B72D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Partnering for Education</a:t>
            </a:r>
            <a:br>
              <a:rPr sz="40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nd </a:t>
            </a:r>
            <a:br>
              <a:rPr sz="3200"/>
            </a:b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Invitation to Local K-12 STEM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Team Members an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omic Imagi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ghid Corcoran (G), Ruth Craft (T) &amp;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nette Raigoza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tronom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oe Ribaudo (G) &amp; Aaron McNeely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Ey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ames Whitcomb(G) &amp; Mark Ballentine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informatic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ill Dzurisin (G) &amp; Tom Loughran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botic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yan Connaughton (G), Ken Andert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an Brubaker (T) &amp; Matt Modlin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osing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c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fice of Congressman Joe Donne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um Centerpiece – Project Fair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onal Tours – Chemistry &amp; Physics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inders – Evaluation and Contact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x Lunch – Available in Gall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or of Community Relations University of Notre D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ion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fice of U.S. Senator Evan Bay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onso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ational Science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College of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College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QuarkNet Center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otre Dam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Research Community (ND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help of MANY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ting Organiz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oEyes (Thomas Jefferson Univers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ISM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T@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RET@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rk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2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D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tnering for Education and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9:30 - 10:0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tion and Researc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:00 - 10:4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r of Museum of 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 Digital Visualization T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:40 - 11:40 a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Eyes Presentation by Dr. Jamie Sh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:40 – 12:00 no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tion and Researc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:00 – 2:00 p.m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osing Remarks, Lunch and Project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urs of Chemistry &amp; Physics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5 Year NSF GK-12 Project – 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tly 6 Graduate Fellows from Science and Engineering and 7 K-12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s often include a graduate fellow, a teacher and several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s concentrate on research during the summer and on educational activities during the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earch is Important – complementary approach to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acher is the Professional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velop Effective and Collegial Relationships - M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gin Slowly – An extra pair of hands and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ed Judiciously with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ablish an Enduring Community of Researchers/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ster a Rich Culture in Engineering, Science and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during Community and Rich Culture are Mutually Enh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Variety of Opportuniti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ome a Team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earch – primarily during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assroom Activities – primarily during the 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ear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uate Fellow can be a mentor/colleague for 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assroo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tra pair of hands and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velop/Implement Activities – BioEyes &amp;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ubs – Robotics, Science, Ma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a Suggestion – maybe we can collaborate in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y we haven’t thought of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Dam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search Commun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ND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efits for K-12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erience the collegiality and excitement of collaborating with fellow teachers and Notre Dame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ork with fellow teachers and Notre Dame researchers to enhance STEM education in the local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aried research positions at Notre Dame during the sum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ademic credit for graduate research at Notre D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J. Mooney</cp:lastModifiedBy>
  <dcterms:modified xsi:type="dcterms:W3CDTF">2007-12-01T05:59:0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